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0140-A062-4A00-A7CA-ACDD5CE05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A07A-B4D9-4D19-A924-DA239977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8FB2-1932-420B-80AC-69151F4F6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557B-8D0E-4EFC-AFCC-3662B700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A9AD-09A2-4622-BA18-5815C16F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2700-52F1-4452-A024-4CC78758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D595-107F-4049-9D62-7D409B41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0567-9AD6-47B3-872B-4E89B45B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3136-488D-41D5-AE6A-42B898D8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44C5-99B2-4CEE-8B21-52ADCCEC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59C8-83DE-468B-86BD-20316BF0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CBD9-4985-4588-AA31-A1D302B0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4B34-C8AC-4A59-A702-2D8110AD5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6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066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e-Mass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6002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olar mass of any substance is the mass in grams of one mole of that sub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2514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onversion:  moles to 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first" descr=""/>
          <p:cNvPicPr/>
          <p:nvPr/>
        </p:nvPicPr>
        <p:blipFill>
          <a:blip r:embed="rId1"/>
          <a:stretch/>
        </p:blipFill>
        <p:spPr>
          <a:xfrm>
            <a:off x="1371600" y="3048120"/>
            <a:ext cx="6072120" cy="1242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66680" y="4191120"/>
            <a:ext cx="716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sample problem 10.5 pg 298, and do practice problems 16 and 17 into no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do not forget, you need to add the mass of each atom in the formula to get the total molar mass of a compound (see note guide 6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onversion:  mass to m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second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607248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14400" y="21337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sample problem 10.6 pg 299, and do practice problems 18 and 19 into no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do not forget, you need to add the mass of each atom in the formula to get the total molar mass of a compound (see note guide 6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3886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e Road 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02:17:26Z</dcterms:created>
  <dc:creator>jpak</dc:creator>
  <dc:description/>
  <dc:language>en-US</dc:language>
  <cp:lastModifiedBy>Farwell Area Schools</cp:lastModifiedBy>
  <dcterms:modified xsi:type="dcterms:W3CDTF">2008-11-11T18:27:51Z</dcterms:modified>
  <cp:revision>5</cp:revision>
  <dc:subject/>
  <dc:title>Note Guide 6-2</dc:title>
</cp:coreProperties>
</file>